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402-A04C-45E6-9038-3E545DD9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3DC-2693-4A91-A6FF-D3D25FB5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CB8-A2CF-491C-92B2-B4FF93AB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0F1-2D7D-4AFA-9C91-AC331823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D07-D232-4318-BE20-9C9D7B31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02C-1AB3-452F-9404-34B35833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146-9D39-4B73-8013-3D2D3132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506-7249-4D60-8A5A-8289FBDA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D24-8FE9-49F4-BBF4-B2660889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9F2-51F4-4683-9E48-527596D8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179-7212-4B24-AF2D-0489EDFE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09E-9072-49DA-97AB-8697B1DC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02FC-3190-4761-AC18-61DBA5697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905120"/>
            <a:ext cx="815328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tlement Calend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Extract Vari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E8CC-131F-471A-A6F6-5A6DB505E4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30360" y="4648320"/>
            <a:ext cx="1295280" cy="106668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ttlement Cale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900520"/>
            <a:ext cx="6024600" cy="83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6026040" cy="142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72280" y="2057400"/>
            <a:ext cx="2336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egan with 1 Resettlement a n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7880" y="2971800"/>
            <a:ext cx="258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ved to 3 Resettlements a n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57880" y="3962520"/>
            <a:ext cx="258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omplete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Resettl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57880" y="5867280"/>
            <a:ext cx="258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Catch up to 180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True-Up 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30360" y="2895480"/>
            <a:ext cx="1295280" cy="914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0360" y="3962520"/>
            <a:ext cx="1298520" cy="6094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58800" y="5791320"/>
            <a:ext cx="1298880" cy="9144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30360" y="2057400"/>
            <a:ext cx="12985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48006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ettling January 3-5 20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as of October 14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6010200" cy="55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28600" y="5799240"/>
            <a:ext cx="6010200" cy="83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28600" y="4730760"/>
            <a:ext cx="6024600" cy="83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E3A-6EB2-40F8-BECC-F26942B08F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Month Deadlines for DEV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09680" y="1525680"/>
          <a:ext cx="4572000" cy="4417920"/>
        </p:xfrm>
        <a:graphic>
          <a:graphicData uri="http://schemas.openxmlformats.org/drawingml/2006/table">
            <a:tbl>
              <a:tblPr/>
              <a:tblGrid>
                <a:gridCol w="1218960"/>
                <a:gridCol w="1371600"/>
                <a:gridCol w="19814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ad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Aggreg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True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t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3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2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1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/2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2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/12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/8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/22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/1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/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/14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/28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2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12/5/2004 True-Up settlement will be caught up to regular 180 day True-up Schedu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7AA-461A-47D8-B1CB-558C54E037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" y="6094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 Relationship Var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d with ERCOT</a:t>
            </a:r>
            <a:br>
              <a:rPr sz="32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of 10/13/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76520"/>
          <a:ext cx="8292960" cy="405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9296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25E-1B11-4D43-8286-CF0A5630FF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5335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 Relationship Var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d with ERCO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of 10/13/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6320" y="1447920"/>
          <a:ext cx="89406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447920"/>
                    <a:ext cx="89406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5C3-22C9-422F-9F2A-A965A15E8A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4572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 Relationship Var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for Consider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508040"/>
            <a:ext cx="853452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ter of the DEV FT issue is the owner of the issue, and should work with the Monitoring party to gain response/agre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71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s continue to submit variances for months for which settlement has passed and for recent months.  ERCOT will continue to work issues per DEV Manual timeline – basic 75 day cale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71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ed responses by monitoring party may cause issues to extend beyond the 75 day cale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71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on of  “Monitoring responses causing Variance Type changes will not be accepted” will be discussed at the DEV workshop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586-701D-4AE3-A1FB-4B87EDA617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tnt</cp:lastModifiedBy>
  <cp:lastPrinted>2002-09-24T18:27:58Z</cp:lastPrinted>
  <dcterms:modified xsi:type="dcterms:W3CDTF">2004-10-14T13:14:13Z</dcterms:modified>
  <cp:revision>4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